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781-58B7-4EBE-B37B-7D5B0219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0BB-A056-4C64-B3B7-5C125738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C9B1D-8E02-4486-A368-8B40942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3FC3A-400C-425E-80C9-93D62CD3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8DBDA-2F6E-43F7-9ED0-691C5E3A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84607-FC4E-4EB1-B97E-A04FF67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2376A-62CF-493B-8231-E37BA9CF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FF3C8-C77C-4259-A684-55C4D3E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A4123-27CB-4F72-885A-00950830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F93D3-431F-45C8-BDE0-4545396E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21E42-46CB-439D-BDA8-8A2B4306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FBC4E-008D-463C-BDA5-5D50F6BA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68A-BF86-4DF6-AB51-36495B9F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CF75F-8BA2-4D11-9B48-446A7823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05A48-B3F4-48A8-B39F-39B4CD9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F271D-0660-4831-8588-761DBE59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C4C80-AB81-4502-A64D-9B585979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F8131-3343-4633-B742-F89B078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EC2E4-A23A-45C3-ADA5-239E40B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DE908-5D55-4362-92D3-72134B3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581E5-E3B9-46B9-AE24-204C7E7F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623DB-4894-45F5-8D38-4ACBBCAE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B8C97-B7D5-4532-BB2B-6E4A5B50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1BE-E387-46A2-8C38-5B33788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B6463-B19E-45BB-956D-7AC38CBD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A94DE-D7C9-429C-9F7E-D713C693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0D74-6C12-450F-B866-82C989C4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E8336-AF0D-41AC-A911-8E07B711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FE9DA-8362-408E-B52D-4F9232C8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ABE48-7E6C-4D2E-81D3-F330E149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F54ED-DC5C-4117-9455-C1BBF98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4B5A5-A1AF-49F7-B501-69FF4A5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0DA94-E9FD-470D-AB86-C22B09B6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BE69B-2B00-45D4-B269-60482721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2159-85EA-4A97-A315-081C2A3E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EAB67-D190-4E5A-BC5B-BDB70319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F63B9-303D-4D9F-8BA1-12604860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8917E-34DC-4D69-8000-1CC4BC08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3A271-D9A0-4E12-A698-151894E7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EC519-93D1-4A6B-9184-7B6A652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B7BCC-2622-42EB-8368-97C1658B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06F48-1FD4-444A-8F12-4022A31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A37DE-ECA9-413B-8695-142B2E19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BC440-4CE1-406C-82F1-3ADA2DF6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33093-04BF-468E-A806-998C904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757-85BE-44CC-9E2A-C13DA9A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78D7E-7FA9-4A55-B090-E1D2B78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8823A-EE00-4CCB-8756-6DC28C93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8AE35-7939-49D8-A397-9BB27CA8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FD95F-F38A-4ED3-A0F5-802FE0E1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371EC-105E-42C5-9488-C9013EFB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C85EE0-F3B7-424F-B0D8-761BEAD3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41874-096B-4664-BC7B-743C1074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119FA-9BE4-44BC-A1C0-6A23C5E9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75728-AA77-4012-BDCC-A5FD98FA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5722E-9789-4534-B368-EDEC405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3977-2D87-49DC-B183-0BDE0F8A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006264-ADCB-4A0B-A1CC-C5168D06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E75F3-72D7-4A04-B664-B3438AD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75C5B-7B82-4203-9D79-6DD5A901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8719A-7906-4A1C-A622-4BD051D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6F2CC-23FD-4B24-975A-FFD5B12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EEE9C-1C1B-4C3B-BAF7-304DF1BA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3BB108-5925-4B12-AE23-312C4AB9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96FF6-450A-49E8-99FE-F0B4F96E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0B147-8EA5-42A9-BFD3-025AD4D1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0E10F-873B-4159-A645-27CA5D4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5B7F-59F2-45C6-84DC-CE21223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8C13A-E46F-4E85-AE2A-815EF9CF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8D83E-63D8-4A2E-AE3E-0CE9BA37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B75D3-E1C8-47C1-B026-F6EFDEE5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74242-EC7B-491E-AE3D-31925A8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638B8-4486-45B0-937B-4E457A18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E459E-2722-4B87-B77A-9F415933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83BFE-6AA5-4A98-BC9F-940473C1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CDF77-0B57-490D-A28F-11CA51D1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B74BA-49BC-4977-8551-25BDF5E5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A43D9-6B26-4EEC-8145-2F5BAE21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648-DB85-4A4A-BB32-57A63CA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16399F-4AC1-4587-A4A5-C68A59D0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FB2E1-26BA-40D2-A7F6-3A735037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0581F-7AC4-412A-89AA-7F22807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2B4BF-FAC1-418E-86FA-4712E800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B77341-100A-4EBC-91C9-26EE0F5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70B7DB-11C8-4C65-A246-AD433BC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73422-DF07-4463-B3D4-A23C457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61809-3249-460E-ABDD-E5D71DB4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7D584-FA42-4B29-B11C-D7571AE2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2B722-A08D-4955-8970-C7FC6669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DD91-5C3F-4251-915E-63A52F1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937566-B56D-4CFF-90D9-0AFB4916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FDE3E-2223-4545-8E45-128BFE46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F604C-FA08-4D9A-AA85-AFF7E2F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5B2A3-7D1A-4115-AD41-4A2CD3ED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9DA9C-9173-4177-923D-14F4D105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96CAD-CF1A-4171-A416-6F577856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77459-2545-48B9-A70C-29C28439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9078B-1C07-4F95-818C-BB2E6022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AB82D-2CF7-4493-9D37-313B722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BC4FA4-A117-46D5-B059-B46C6F39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7599-C640-491A-92FB-86C39A7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826AC-CDF8-41D3-AC89-B5AFD423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2E2E3-57F2-4BB0-8ED7-6EACC886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BED60-E131-4ED8-A865-CACEDB02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CE778-5F7B-487E-87DB-D273D6AD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05A74-DD91-4862-ABCE-67DD9CC8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AC4E8-E890-4FCC-ACED-C337D2F4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AF641E-C3DA-4122-8483-C7A2894C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45758-00C8-40AA-A308-99AEBAF5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E747A7-5169-4D0F-A827-22AADA1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13CBF-027E-4DDA-93EA-FB1E4AC3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E04-A954-4C99-A555-EE0CAB7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E5DE-F523-47E7-8520-7DE3939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3899B-E01A-41ED-89A5-9308269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7FC0D-A1A1-46DB-AC1F-867763EE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170F9-D97B-4015-8968-6039677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6BFCD-DECB-4E47-A40A-BF5EDC19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769CF-6863-4FF4-87B1-B93F8DBD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2705C-6DA4-4579-96B5-49C2500A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1BFC7-B5E0-49B4-9E53-C645E9BD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EC6D7-DD8C-4BB9-96C0-CCCF14B2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43B5D0-3C2D-4371-926C-3CF681FA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52CE8-BB36-4514-A239-F0F6B653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62A-CC1F-43F4-AA90-09A00C11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6C038-7077-452F-8AA4-5CBEED45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BBFD9-28F5-49FC-A84D-FF9AB138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063BFA-B27E-4E3F-A262-DEDB9BA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3E020A-377E-4AD5-9935-01A1E26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4E92D-A6B1-45CC-A101-7AC06848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3F405-87AC-4B0F-A712-91AE605E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04264-684C-4135-83A1-6A379419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770F6-8D95-4CE2-8F37-BC74C085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E64B6-F7B0-4255-9886-16A81486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10099-2683-4FAA-A924-5E2BFC5A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D642-B28A-4F21-A429-218E5BD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524DE-55F9-4981-8511-7E14C55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19414-A7FE-4EDE-A023-C0D4299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BEB041-DFE7-4E9A-8900-8B266C39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B99B9-4695-45A4-9F67-DECF1B82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743DC-3299-4ED5-BE25-4542E69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D42692-EA6F-4E70-B6EF-4259A111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D2668-D2E5-4B43-88B6-50F436B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7BD19-AD16-4273-B1FF-DEFB3857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E686C-CC5E-4E4E-8330-AF1A0900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049CA-0C0D-4187-BD78-BBEDCE08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C80F-2E92-4F7D-9B80-882EB108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785A6-A570-4593-86E3-36ADD548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06717-8D59-4568-8F30-C5260A64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3046E1-73F9-404C-9CB6-19B894CC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C625E-87AC-4EA2-B197-63DF5AB5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2FA4A-4419-4A9E-B869-17D1F03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4E0846-3FD8-48F8-93B1-5ED9331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50D95-6907-4E96-93CB-FD9D9E9B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B7C87-5B64-4586-81D4-05778F89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9445A-3A19-4C83-A097-45E02C3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B991A-9EDF-44A2-88F4-D25EDACD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B62-C259-421B-A1A2-B2BFCA69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6E44E-FCDB-4A51-B08B-2C63B892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85192-AEEF-49D2-9A7F-DE160DC0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1EB9E-DC3C-49F8-AA50-3393DA4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6555C8-8E43-46D7-AFFC-A448414F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B9F0F-B01B-4D4C-B389-E4C65619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FFFE2E-B62C-4D19-AE54-93E1A12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D3DEB-11F6-4405-8CC5-D6CE67E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8593D-4878-49CC-A92B-E8E92AF5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8E7E88-124D-45C1-9216-6E515F3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B1DA8E-FD95-4605-BA4E-AD3C970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BA90-B766-4C29-AF39-78A7DBCA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A25019-FC23-4D10-82F3-682976C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0A358-B03F-4256-B746-3353F231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6BC92-CFA9-4845-B1A0-32EE63D3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58EC-C22C-4FBD-900E-D5DE82B0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440F3-5CD3-49B4-9AF9-AC4EC76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70D5-038A-4FBE-9ADC-3C6C97BA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80FD-3E96-4EEB-8B5E-3BA2C1F4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7A16-ED7D-4466-8E0C-00D864FE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45D90-30E0-4F94-BACC-8B63C3EB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2350-B720-4C98-A78D-53A96A2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A2DF-2A8F-4698-AA2F-F0CF1C64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1103-3EBE-4907-8A7B-591079D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599F-ABD5-459B-A3D3-785F00E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8860-FFAE-4C09-9547-43CE0B3C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A133E-BE3B-46B0-9E72-181D3207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6336-45F7-40F8-AF96-70E551C8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4EBC-C3A6-4607-ABEB-E3855530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09F5A-34CA-4F89-A580-26EFF44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712-1E7C-4517-A9ED-EB29ADA4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CD216-ED70-4109-BD03-DA11D70E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DE43-F06F-41A9-BF4D-868BA610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C438D-A312-4690-9EBF-0A0A7D25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ADE9-279F-4C91-BA87-444733D7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DE9E-15AD-49AF-B74D-CB9991A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F17E-AE0F-4FA9-AA82-BF6D8CEF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395D-953B-4E5B-80F1-F1071B84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9921-0E16-4055-B68D-2C261133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E6E6-A049-4E78-B88A-5F4CB26F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262B-7C5F-464D-95AB-EBC14BAD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1E3-3167-4ED7-B105-687C112C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F62E-E0F8-4838-A005-BF9D8148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8CC8-59E4-46D2-A231-FF8DD3C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EA4E6-9760-46F4-91E7-AA1643CF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DD56E-1F68-48BB-BC0A-4B4A31D3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1AAC3-AD38-4463-AB9D-E9993C15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676E-2C9C-4F9A-88F5-417C203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A0CD-258E-4EA4-B92B-AEC5813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A538C-2CE2-40D6-B3D7-C5E02A0B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6620-FC5B-4925-B9FB-B3D5D4CD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6C212-49F1-4244-94F1-7BA03A42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940-A347-4A0A-9C4A-1317358C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F3F1C-9068-4CCE-846C-0255C9F9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3BBF-45E8-40C2-8E5D-909D7558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5C9F-2772-4A25-AF66-11BF3E4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B7766-4E62-4FFE-881D-F967810B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5CDD6-CA30-4459-9CA9-68483424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A5839-DF0D-4BF0-91A9-152EC87B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AC544-7864-448E-8CE6-3A0E3FDE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20A1-7DDC-4432-87F5-4FC0532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7FF66-A84C-4546-B32C-99CE859B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E6ECD-87A1-4960-820C-9ACEEA65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E0A-A856-4981-90C9-42E2213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C051-F9F4-4580-9B9C-2DD0E3F2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F36AE-8351-432E-92ED-672E93E8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17ECB-2488-48F7-8124-E100F8EB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A137-9F89-4DA1-869C-64A17B00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96A13-5C3B-4D95-B693-DF7E94F1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C94F8-D4D5-4A13-AA44-CDE36525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F9F7A-586B-48D2-A015-E8901938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3BA9D-9D8D-409A-9E40-80DC8C51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E1D5-F8DF-45B3-98C7-AF6579F2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611CB-8307-4010-B21E-E4542A31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B92-FE87-4994-8348-B53BFE0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CFA8A-1093-4882-B4DC-63383E4C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49A16-9AF5-4AC1-A010-9D9C04A4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52D7C-637E-489B-8352-E23B8B0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5F0E-D218-49CF-B2E1-D7048929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0EA06-FD6B-42B3-9A7E-8449D6BF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7E3F-77DB-487F-BE05-B5243E27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401E1-EC68-439F-BF3C-7E7A583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54E9C-8FBD-4CE6-AC92-77705F46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65663-AEEB-4C70-A604-5B597201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E82EB-1D29-45EE-8C5C-43D66866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EFD-A70F-437F-9E2A-645FD6E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2729E-9902-49CD-A2AC-58C504F4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85A94-5934-4FD7-9BA5-66D1D0A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51207-DA02-431C-801D-BF2BD4E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6AEFE-33FF-4D50-9E37-66E1CE56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791B7-B9C5-4B4E-8923-973C4EA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C562E-474F-4A39-A764-AF95D8BD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CD2A8-A34D-47E7-A78B-4F6F9593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DD845-F31D-479C-9755-5CF5FC53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66E6-9BE3-4ED1-9F33-08CDBDB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C3C63-BAFB-4357-A189-A1630B44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1235-0D57-43C7-9C58-FBDDD88CDB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EF84-6A45-4EC9-B7C3-2872841D5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4E97-A8C0-4B5A-AC60-D7205C1A1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575-7476-48AC-9CC8-D48A3FFF9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D5F4-C321-4898-87C3-8DC4B702B9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785B-7386-47B2-B7DC-037722C3F4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5B05-FC44-4042-B155-2A8182EA2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9966-6BD9-4442-9A6D-06164F4E0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93CD-3D65-4514-918B-5B5F30D5E4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2CB8-06D0-47DB-9FDC-952FC90AF5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775-49B2-4506-82E9-8377519C2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8B3A-7A03-482A-87FD-07156CACF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563A-A4BB-42BE-8ABF-CB5ADF09EF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582A-B4DA-480A-9C90-D928F62EC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05CA-F147-4094-813C-F1F7A284BF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489-C20D-4EFA-BA11-1087E14BC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E5E-C5BD-4DB3-B36C-7D7952299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CCD9-C861-49B2-87C8-815F904501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BC63-9FC0-46CF-B6D1-854469DAD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F33E-DFD5-4BA1-938C-EA33B0FD3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51E5-3751-4DE0-9C13-9DA28C942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453A-8080-499A-9101-DFA7782927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8549-E94D-4715-BFE7-CF9C8D791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739D-016E-4881-8D5C-54039B57F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44CE-347D-44FC-82B3-777366EB2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2495-7A69-4994-A543-5D1DCD90FF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2989-D9F9-46D8-A8B5-58BD116953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812-1E27-4E2C-AAC9-F8A24F2EB5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81AC-4B4A-470B-99A7-4CCC216860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576B-24A1-485F-A719-41CB53543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68C-2AC5-4AEE-BB04-80ADE50C1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0856-A276-4320-94C1-7CF0E002E8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4F4-874B-4453-9FBD-DA8C893305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39A-AAFF-401A-85A2-FD70BAFA6C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7977-E435-4B17-B185-961CAA047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5E0F-D938-41D3-A303-86FFEB3685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E543-87FB-4351-BB3F-2D56A042E3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83E7-DBA1-4C7A-8D1B-A129BC78E3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AE23-9393-471D-BA52-02E7539380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2276-8D6A-4B7C-BFC1-2B9475C6CF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49320" y="1779480"/>
            <a:ext cx="7915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69633" descr=""/>
          <p:cNvPicPr/>
          <p:nvPr/>
        </p:nvPicPr>
        <p:blipFill>
          <a:blip r:embed="rId1"/>
          <a:stretch/>
        </p:blipFill>
        <p:spPr>
          <a:xfrm>
            <a:off x="566640" y="833400"/>
            <a:ext cx="8010720" cy="5191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194472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71640" y="2492280"/>
            <a:ext cx="7705800" cy="493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770580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300640"/>
            <a:ext cx="770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68609" descr=""/>
          <p:cNvPicPr/>
          <p:nvPr/>
        </p:nvPicPr>
        <p:blipFill>
          <a:blip r:embed="rId1"/>
          <a:stretch/>
        </p:blipFill>
        <p:spPr>
          <a:xfrm>
            <a:off x="1166760" y="1341360"/>
            <a:ext cx="6810480" cy="222876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68610" descr=""/>
          <p:cNvPicPr/>
          <p:nvPr/>
        </p:nvPicPr>
        <p:blipFill>
          <a:blip r:embed="rId2"/>
          <a:stretch/>
        </p:blipFill>
        <p:spPr>
          <a:xfrm>
            <a:off x="338040" y="3557520"/>
            <a:ext cx="8467920" cy="22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4614840" y="17589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380360" y="16430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421164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7192800" y="25066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835280" y="386064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003640" y="386064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956720" y="3846600"/>
            <a:ext cx="576000" cy="720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1619280" y="476712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4600440" y="4753080"/>
            <a:ext cx="576360" cy="720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956720" y="4724280"/>
            <a:ext cx="9363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71560"/>
            <a:ext cx="8601120" cy="55818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80000" y="4951440"/>
            <a:ext cx="129672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372360" y="4941720"/>
            <a:ext cx="129672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877080" y="5516640"/>
            <a:ext cx="1297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3240" y="2052720"/>
            <a:ext cx="7877520" cy="2752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851280" y="25938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3492360" y="314172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2627280" y="365904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6877080" y="3645000"/>
            <a:ext cx="93672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2325600" y="422100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4788000" y="4221000"/>
            <a:ext cx="151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90520" y="907920"/>
            <a:ext cx="8562960" cy="5400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7056360" cy="4939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971640" y="5719680"/>
            <a:ext cx="705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662040" y="2562120"/>
            <a:ext cx="7819920" cy="1733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116000" y="3616200"/>
            <a:ext cx="748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47680" y="2014560"/>
            <a:ext cx="8648640" cy="2828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258920" y="3773520"/>
            <a:ext cx="763416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76345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600120" y="923760"/>
            <a:ext cx="7943760" cy="54579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848720" cy="936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71640" y="2521080"/>
            <a:ext cx="648000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11280" y="4738680"/>
            <a:ext cx="7848360" cy="936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84360" y="5734080"/>
            <a:ext cx="6480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4276" descr=""/>
          <p:cNvPicPr/>
          <p:nvPr/>
        </p:nvPicPr>
        <p:blipFill>
          <a:blip r:embed="rId1"/>
          <a:stretch/>
        </p:blipFill>
        <p:spPr>
          <a:xfrm>
            <a:off x="299880" y="1557360"/>
            <a:ext cx="8544240" cy="374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508720" y="462456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093080" y="4595760"/>
            <a:ext cx="57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523800" y="1147680"/>
            <a:ext cx="8096400" cy="456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52232" descr=""/>
          <p:cNvPicPr/>
          <p:nvPr/>
        </p:nvPicPr>
        <p:blipFill>
          <a:blip r:embed="rId2"/>
          <a:stretch/>
        </p:blipFill>
        <p:spPr>
          <a:xfrm>
            <a:off x="1523880" y="2328840"/>
            <a:ext cx="64105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02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